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D5E-FFCB-4AA7-A653-33BC42F7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51E-C6FB-4810-88B3-7156B0C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022-D6F3-4C20-B86E-4636C071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637-C272-4E5F-ABFD-65FE9765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C746-8D69-4643-A417-23A8CF94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D08B-D596-41E1-AD8A-4AF66D7D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4902-6520-4B3C-B95C-E0FCCFFE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898E-CDE8-4326-A67A-506845F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EA0-E114-4FAF-AD67-5D09568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1C1E-EC76-46AD-B46B-3FC7423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F00D-8C6A-4544-9AB4-F707021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D07-7B04-4858-849C-240082A5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29C-5C52-433C-A3D9-5E423F43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D939-CC5D-4656-BB5C-B7AC8805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B829-0AE5-4AD9-AAAA-831B0F8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741-809D-4425-B8C0-55BA2320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0E61-6746-47DF-B383-30D79170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6F11-0252-451E-8444-8AE79827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1DE0-AD0E-4B0F-B997-E8FD6941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39A4-9F64-4A63-A34B-862F3191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D53C-31B3-4F13-95F1-C08C7A69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7885-42D4-418E-8F34-DB96AC7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777-17EF-4010-A127-24ABB5DA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13F39-369C-4DE1-8CD1-6845AEB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7B6F-1EC0-4679-8BE8-909BC98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45B5-5AD6-4C07-8C4C-A38B5FC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145C-357D-4BF7-9626-69F264A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D475-FF60-44E7-AD57-CF2F05D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74E1-ED2D-400A-89D5-85B29AC8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568D-58EE-45FF-A26E-CD6A5B5B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33E3-FB98-4DF8-92D8-6BC72A62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C452-A422-4F02-B567-BF76F56B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5EF6-225D-4A01-8033-CFBABD8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24D-75A7-42EC-998D-008022E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A992-6AB4-4ECC-B079-8C1609C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3D83-1255-45C4-B5FF-B17E0A4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70AE-A4C0-440C-8F60-A91B95B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4818-FD88-4CC6-A1C6-C9225FC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1C21-9AB5-49A4-8517-2D57A3C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FCE4-E055-467D-9302-7C7D083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4D55-9B4A-41E3-9506-7C442B7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A139-7568-45DF-ADB3-92BCD2C9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8614-2E38-4A70-B01D-A43ED11A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7A2-9C7E-450D-9E3D-5ED48B0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3ED-5443-4B8D-86FA-C2960C58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99C-B4EE-44B8-B2A6-AEFD3A7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556-C55E-4D6C-84E1-2B270EF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990-6452-4967-84DA-63EA6AF4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ombinationstegning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Kombinationstegning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80DA-5CD1-4067-A44F-2015034315A1}" type="slidenum">
              <a:rPr b="0" lang="da-DK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Kombinationstegnin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Kombinationstegnin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Kombinationstegnin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Kombinationstegnin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Kombinationstegning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Kombinationstegning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Kombinationstegnin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Kombinationstegnin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Kombinationstegnin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Kombinationstegnin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BB88-C924-4763-BCC2-43CBBDE430EA}" type="slidenum">
              <a:rPr b="0" lang="da-DK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Kombinationstegning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Kombinationstegning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Kombinationstegnin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Kombinationstegnin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Kombinationstegnin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Kombinationstegnin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9D98-0252-47DC-81BF-8436E7DA980E}" type="slidenum">
              <a:rPr b="0" lang="da-DK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ktangel med enkelt afklippet og afrundet hjørn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etvinklet trekant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Kombinationstegning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Kombinationstegning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5A1-A758-43D4-B286-11714AD3107A}" type="slidenum">
              <a:rPr b="0" lang="da-DK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95.215.202.233/DotNetNuke/default.aspx" TargetMode="External"/><Relationship Id="rId2" Type="http://schemas.openxmlformats.org/officeDocument/2006/relationships/hyperlink" Target="http://infoshare.dk/spin14/" TargetMode="External"/><Relationship Id="rId3" Type="http://schemas.openxmlformats.org/officeDocument/2006/relationships/hyperlink" Target="http://infoshare.dk/spin15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ffffff"/>
                </a:solidFill>
                <a:latin typeface="Constantia"/>
              </a:rPr>
              <a:t>2013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ffffff"/>
                </a:solidFill>
                <a:latin typeface="Constantia"/>
              </a:rPr>
              <a:t>Ny SP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000" spc="-1" strike="noStrike">
                <a:solidFill>
                  <a:srgbClr val="04617b"/>
                </a:solidFill>
                <a:latin typeface="Calibri"/>
              </a:rPr>
              <a:t>2013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2013 data er indlæst for alle eksisterende stof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Data for 475 nye stoffer men gøres først synlige når vi indlæser de nye cas nav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Indlæsning afsluttes med dannelse af ny Access version, form. Inden udgangen af maj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Forsøg med datakontrol efter inspiration fra Fin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000" spc="-1" strike="noStrike">
                <a:solidFill>
                  <a:srgbClr val="04617b"/>
                </a:solidFill>
                <a:latin typeface="Calibri"/>
              </a:rPr>
              <a:t>Ny SP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Ny hjemmes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Databasekonverter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Opdateringsfunk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Online vedligehold af gu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Ny driftsform (virtuel maskine – enklere flytn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Ny Access udg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Usability te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Tids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000" spc="-1" strike="noStrike">
                <a:solidFill>
                  <a:srgbClr val="04617b"/>
                </a:solidFill>
                <a:latin typeface="Calibri"/>
              </a:rPr>
              <a:t>Ny SPIN hjemmes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3 forsla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Den kend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Den blå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etrosty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De nye udgaver kan benytte direkte redigering i MS 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Kommentarer </a:t>
            </a:r>
            <a:r>
              <a:rPr b="0" lang="da-DK" sz="2800" spc="-1" strike="noStrike">
                <a:solidFill>
                  <a:srgbClr val="000000"/>
                </a:solidFill>
                <a:latin typeface="Constantia"/>
              </a:rPr>
              <a:t>(hvilken skal vi arbejde videre med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000" spc="-1" strike="noStrike">
                <a:solidFill>
                  <a:srgbClr val="04617b"/>
                </a:solidFill>
                <a:latin typeface="Calibri"/>
              </a:rPr>
              <a:t>Ny SPIN: Opdateringsfunktion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Indlæsning af nye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Bruger log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Fortryd funk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Kontrolfunk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Opdatering af gu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Ved direkte redigering i 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(Særlig bruger login?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000" spc="-1" strike="noStrike">
                <a:solidFill>
                  <a:srgbClr val="04617b"/>
                </a:solidFill>
                <a:latin typeface="Calibri"/>
              </a:rPr>
              <a:t>Usability t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Testgrupp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Test ved almindelige brug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Test ved fagfol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Test ved dataleverandø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Testområ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Hjemmesiden (opdater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Opdateringsfunktio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Guidevedligeho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Database benytt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000" spc="-1" strike="noStrike">
                <a:solidFill>
                  <a:srgbClr val="04617b"/>
                </a:solidFill>
                <a:latin typeface="Calibri"/>
              </a:rPr>
              <a:t>Tidsplan (forsla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Test af opdatering af hjemmesiden: (NP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24.5 – 15.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Guidevedligehold: (NPG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12.6 – 20.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Database benyttelse: gruppe af frivillige fagfolk + gruppe af alm. bruge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15.8 – 10.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onstantia"/>
              </a:rPr>
              <a:t>Opdateringsfunktioner: (NPG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25.9 – 15.10 (i kopi-syste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nstantia"/>
              </a:rPr>
              <a:t>(Alle dele testes selvfølgelig først internt af InfoShar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21:00:14Z</dcterms:created>
  <dc:creator>supervisor</dc:creator>
  <dc:description/>
  <dc:language>en-US</dc:language>
  <cp:lastModifiedBy>supervisor</cp:lastModifiedBy>
  <dcterms:modified xsi:type="dcterms:W3CDTF">2015-05-06T21:50:52Z</dcterms:modified>
  <cp:revision>7</cp:revision>
  <dc:subject/>
  <dc:title>NPG150507</dc:title>
</cp:coreProperties>
</file>